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C7B0-3288-4896-89EE-AA5B18AC4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F536-50C9-401A-B657-17867A5C2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062-8254-4670-892E-B69D3107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866-0F69-4A76-9811-501798F0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301-3D11-4835-ADC6-5A256BCC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B28-EF47-46DC-94D6-114420A2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A8E-3F94-42B7-BACD-91D11B15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F44-B1FE-4EAD-A643-ADFDFBE6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11C-1BDD-4E90-8BD7-6ACE7FC0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A1A-A532-4EB5-80FA-2C728299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E07-62FE-43E5-A947-A1DA171A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0A9-D777-452F-9E47-678E708C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691-7D3E-4865-80E6-8A5871B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6BE-6B1D-4DF0-A042-DB7C2C7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59F8-71B4-4F46-9FF8-ADED3BEC8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ch plant focuses on only one or a f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Each plant focuses on only one or a f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_12b"/>
          <p:cNvPicPr/>
          <p:nvPr/>
        </p:nvPicPr>
        <p:blipFill>
          <a:blip r:embed="rId1"/>
          <a:stretch/>
        </p:blipFill>
        <p:spPr>
          <a:xfrm>
            <a:off x="2590920" y="7621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x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ext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eads to an increase in manufacturing job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Leads to an increase in manufacturing job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12:41Z</dcterms:modified>
  <cp:revision>84</cp:revision>
  <dc:subject/>
  <dc:title>CRS Chapter 4</dc:title>
</cp:coreProperties>
</file>